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</p:sldMasterIdLst>
  <p:sldIdLst>
    <p:sldId id="256" r:id="rId25"/>
    <p:sldId id="257" r:id="rId26"/>
    <p:sldId id="258" r:id="rId27"/>
    <p:sldId id="25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" Target="slides/slide1.xml"/><Relationship Id="rId26" Type="http://schemas.openxmlformats.org/officeDocument/2006/relationships/slide" Target="slides/slide2.xml"/><Relationship Id="rId27" Type="http://schemas.openxmlformats.org/officeDocument/2006/relationships/slide" Target="slides/slide3.xml"/><Relationship Id="rId28" Type="http://schemas.openxmlformats.org/officeDocument/2006/relationships/slide" Target="slides/slide4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5EEBF-EFC1-4FA0-AE36-1C66ABE04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59BD0-EC6A-40DC-BA13-A93FB91BB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52014F-81C6-4E4E-A8D0-5147BC152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41F0E2-435D-41DB-96CD-66BAEA72D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2BD71C-1321-433F-8551-4C42A9A25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F728B8-7633-48DD-80C3-86067F40C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E254E8-F31D-4A63-8F55-7ED62CBD8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9F3A0D-1FF6-4540-9E97-9B121BB02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845512-31D4-457A-85DF-0E60DDA7D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C6FEDF-E479-4EDE-8C5E-0AB7393B1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3867B1-FC3E-4D7C-B9A5-2C8B464E2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837447-083D-485C-A595-9B7085927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2D3CB-583C-44CC-BB49-AA1E919BB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E439EE-5C14-4F79-A792-F81E8DF55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EA6D19-08C7-4E44-B143-1EBC8C80A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E98238-0A71-4B35-9299-F4E32B332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F6CDAC-6D49-40E5-A011-D52B2DEAF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32A8B3-B5A3-4462-8D1E-9ABF0137A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6529DB-BAD3-4B4E-BEA3-6ADD3DD5C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E99A18-90CA-490D-8519-E933EAD22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5DB9BE-C833-4425-AE30-CB2D80C2C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8A1E8C-3617-423E-825F-8B715C523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3DC9DE-F940-4081-964B-9429F8C02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F6430-9326-4EE4-B5F3-C57605918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C844A5-24FA-49D1-87CE-3F1A454A4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B30CF5-A675-4596-AB15-31A65E551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EE358E-720C-4094-9857-72C2051DB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FA07D7-BEA2-4834-BF9F-06682CF1D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C1B9DF-54C2-4F62-A03A-66C7A023D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178166-4A48-42CB-9CCA-141541FB0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718FEC-8A9D-43CF-953B-B42AA2066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BA49EF-A922-4F6A-917C-D4C8EB4BD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BD963D-B14D-4B89-948D-68329917E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8322F5-51A8-41B5-BC80-967C41EAD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08140-0B74-4211-BCAB-6BE8D4279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7F48E3-25B0-4E41-8DF3-5C105BF39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DCD0BA-B82D-4E83-9FA3-E7C34C89E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729429-5CD1-4125-ACFB-066B1CA02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DC0368-8A84-417D-9283-A5990A8FF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F9E232-6B3A-4731-868A-1B26C2217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F0DFA0-E793-4BE8-B2C3-E76F7A93A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1FB1DC-7278-407B-A441-C1E5AF901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44FD66-3408-452D-B421-C62618296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B43046-778D-4177-8385-3E2F93136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950C2B-AF24-4777-81E8-9FFC2824A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F0955-3EAD-439E-927B-656DB649A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1D9300-02F9-4B50-943B-94830FF08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9278D5-C6A2-4AE2-97F6-4AC9E5960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CD276C-625D-4080-AE92-645B9BDD9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7C3288-5684-4396-8595-58BD024DA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7AF1C9-94F4-483C-A49A-CD9332F7F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E6F68E0-DED3-4471-959D-44731EC3A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3B8D9B7-C23F-41EA-8093-29BF320F4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DF1D159-B667-46E2-B39C-C6A34C706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B3780D1-9933-4ED1-B425-B186F8A57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D3869DA-0D55-4DB0-9E38-86E10B2B1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57778-430E-45DC-9E00-7D0F103F3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60497EB-9DFA-4B68-AC07-B6AE20ACC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E1B01D9-0DFE-48FF-BECB-A2E57563E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70346B3-6D43-4C69-BF4C-48E7D8518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C656160-CA1D-4BD5-BC74-5034FF3DB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57947CC-831F-4758-B8EA-0CCCBA60A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E0688C8-5336-4A2E-A650-64C583103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5448F94-CDBE-4387-A0D7-28986C4F6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18B02CC-3CA2-4075-84A6-3000752EC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828DCC7-D269-46D3-9DD5-7F396F3E9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50258ED-9977-4FC2-9AE6-2C070FCCD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BF240-EB0E-469D-AA4F-240EA9AEB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DD73FF1-33A8-416F-BD8F-3181B18EE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5D36CDC-EF29-4415-A54D-245EE1874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F65516F-2E09-4628-B4AF-C3D7E3C75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9813C95-E2FB-4D09-833A-447D81FC8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5CF7EA6-7827-4C1B-8A44-1FA8FA9E2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2F3E70B-0925-451C-B8E3-D6F84D601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1F74AAA-2D5D-43A2-8ECF-148D226C3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0CE59A8-5A4E-465D-A910-9296072B0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812CA31-9DED-448D-A54C-D863D5596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CA43BF9-2AA0-441E-8C4E-2C0DF322F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B552F-7AE3-46B2-8E6A-DB31EDDDF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4F28246-043E-4DDD-8E29-BE498CB22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43C8CD7-EF6E-46C2-9191-B6C990FF4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55AF9DA-9383-490A-B957-EB7C26F2A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4234E33-CA96-4EC5-9BF7-16EF486E9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0C577B2-3477-496C-BC6A-D8C1C90F9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47E9065-0C2B-498F-AE19-6673EF3A6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66AF02D-DB8A-4F13-BA92-72F740EDF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345F0A9-775A-424B-9D50-208599685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BD6B840-22B1-4F93-866D-AAE915971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55F339B-1D6E-4C9D-8708-925ECD22D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D10D7-30B7-4B32-A124-CE5746813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4F92547-A9CA-4320-A3E1-4962666CC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69976D6-72FD-4675-983E-E96B672DF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09925E6-7A44-4C47-AF3B-C18129571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E7C0000-09C1-4DE6-8D5C-A8B79FA8C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8BB126D-FDE8-41CB-B75F-E1089325D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A6C67F8-4CF3-4BE6-903C-6C6856A30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0DF8AFF-8632-4FF6-8ED3-8D4E264ED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BF7AA2A-F28B-4BE3-AE79-37E265BE8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1800DF8-6766-40BD-B7C9-88B5263D7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FA33E96-EFE2-44F2-9C17-818538794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2C7D5-5BAE-4D07-80AF-EF0C90E17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DF1F1B0-0173-4127-93C7-BBBE0A7C3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67809EB-FF87-4103-8EBC-02C509C00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702CE95-36FF-4AB1-BC68-1F7061340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A62DF9C-9622-463A-A3A9-24965F58F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6D24DAB-9959-4955-A7A1-51880BF64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B05633A-917B-4EEF-A384-B161D3FCD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BB39734-5EAE-410A-A6A1-E44C2C75B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FDFF5DB-5630-4C57-A6EE-83A6DACC1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7D768B9-718B-45D1-AFF8-9D904A7E0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8CED3C1-9FF9-49E1-8F75-692C4E877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2BF64-C1F9-4D5F-A6A1-BCC327CC0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5E3AB-ECB4-4DC7-AE72-14C86A535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C8E0CF8-5AE4-4685-B79A-5876295BC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934F481-F4BC-410E-91CE-51E028029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15E61C9-3E96-4A6D-BC18-485167413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19B987B-AD01-4A46-BDA9-C2BD15E03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681926E-0B81-4C11-824D-10250B7F9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6466788-C13A-4404-BE52-227A91A28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5FD4577-977E-40FD-9ECA-02B6ACD55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EB510C9-AC78-44E4-A913-F681AC3D6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C06E646-DDDF-41DC-A3B7-326B53913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F3EE5BB-6D64-495D-801F-B452D5F68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B6A6A-E4AE-4029-A93F-5E6DF14DB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7123534-7780-4762-9B93-752233E45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5371608-265E-47DC-8122-BC727176E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22CF9D2-B255-44D4-A543-C349D486E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54ADAE7-2CE5-44E8-840D-6C7B7FA0C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5922C25-875F-42DE-BAD6-D5CBB844F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5FAE95F-2771-4F12-BE3C-21B57D44A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A6C7945-BE1A-4A22-AA88-236EE4B80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F055373-109A-4C74-9C44-0C86CA3B7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A5DAAA8-E247-45E9-9ED4-704915E0C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89D9C79-9317-419E-80D5-29CC2DECB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1E912-1775-4DC7-9268-1CFE7B98C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AAA39E2-A422-4D61-9067-DB95AC381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8EC563A-C553-464B-96CD-E5089CA12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D51BC71-E5FD-4D09-9E78-DC487CF3D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137EDAE-59CB-48B4-B238-B849EEC5E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87BE8AA-A079-4AF1-8D73-7C801F730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21A9F16-4503-4BFB-A33C-5CF495D3C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F857A57-48C3-43C8-8723-3AC307D06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89509D6-6084-4739-ACB7-E8568BE34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8192D40-2433-45FD-ABE5-E7B7CBFF4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0F09777-53D0-45CD-992E-4C886278B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3B871-27E6-4AA5-8B51-85F30DA9E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99B99A0-75E9-478E-8C56-86810A059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420DB61-3556-4678-ABBF-0D24068AD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1BCA6BB-833A-4874-9A5D-8BD73695A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2A5DB34-19F6-4C4B-AB83-EDBBD1A0F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9207953-56BA-4A64-9CE0-1767B5A17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DECBF7F-6A26-4669-8FE1-11D83D824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554C867-120D-404C-9803-D0ED1970B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09E7CBA-7E84-4068-A6B7-78C27CBCB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CDD806B-A1DB-418C-A099-6FF616CAF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8BC33A4-B0C4-4851-8F07-49FED1620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40477-9AF2-4B17-B19F-FE0B1AE51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CF89AFF-F816-4DB3-B183-435168AB0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3378BE3-BBE4-4B44-87D4-59F6246F8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ED92932-6435-4BA7-9BE5-C389CEEDF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0E44F1C-8534-4839-A55F-58738B249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B4E7AB9-4CEE-4708-B52E-2B011998E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CCEF86C-0BCB-4848-8459-2C9964C49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FA86DAD-E06F-441B-AF32-6A4C265F1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F8129D8-F4D4-4004-A67C-4A276C97D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A4B5334-B851-4E68-AE14-D99FE6779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1D2B47F-1A9D-40F1-A7A6-24FC6BA73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92CAEF-4E59-4877-83F5-05A3CE059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0542B30-26CE-49EF-BD6A-AB72C6F90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6173055-F35B-4865-8112-B471C9F3E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3F9F90B-4D4D-4049-9153-DFC7F215C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BD57A48-A1EE-4674-8633-C3315CAF9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C22BB57-28D8-482F-89B0-F0966CFEB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128673C-2F9F-4BB6-8333-53127791A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A675274-A3D6-4B8B-8F55-4090D4E15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BA2341E-3D9D-4FEE-9AF5-5DC3E00C0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372DBC6-A7A1-4382-8ECF-1E9A429CF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22F50AD-5EAA-493C-9640-D7E6EB528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E16FBD-4BA4-4AB8-858A-96F628F2A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981C559-C4E8-4E22-8F38-853ECE166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F206854-A179-4FBE-8F0B-9B171E0D9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34F7740-EDC6-4485-BF16-3D88FF04A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53E0A18-606D-4F03-A7BB-7FFA9BFB7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9E26B8E-51B0-41CA-821F-7596EFAB6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CB389FD-7C4D-4618-9517-04D46A123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31817C3-9ABB-4A8E-99A9-5CA61D2B3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03FD8FF-B563-4C8D-AB69-374051CAA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93A6244-D190-4501-B10F-559DA4B7D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93EB350-04C2-4507-9F66-C8B6E2E52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8598A6-C544-4E14-863A-E54663329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A328FBE-4AA2-4691-BAA8-BDB8C3756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38CDA28-EBF3-4438-8D1E-3AA4502B4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46A9E71-1169-4C6D-922A-DE731A676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0C27D33-6BE2-43D5-AD81-ABCA4EE37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CBCCFA1-CCF7-4889-8BCC-FA527E9DF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E37B53C-2CB1-4F4B-B325-C64608E3B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56B24C1-FB41-4952-806A-E3E09265F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BA267A-CE95-4AE8-BD4C-A1423010F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A32070-847C-4FCA-9651-ED9BE0E58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94B89-0B33-46D3-95EB-7CEA57204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84AD2F-6D40-4B14-8394-95D42B690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723754-2B63-4DDD-8F2C-422565616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07A0AA-0889-48CD-BAD2-75728BB4C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59110F-C9F7-4FD6-A886-5834B7CD5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A42BD3-0D4D-412F-AC81-9C6CB1DDA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179B7D-E2E8-4513-BDAE-783DCDE7C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E7C3E6-1B70-4869-B2CA-D7EFCCFFC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F50B05-D250-4875-9A93-2EF28458F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BE6804-7ABB-4D80-A959-3FE82B010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229899-DF66-458C-828D-1E1FC1FC6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7B44F-1FB4-45AE-81DF-CDA072FCC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409C7D-3F96-4CD9-87E0-968E003AE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C12A72-5360-475A-89E5-579EF3106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55DB80-A442-4851-B4E2-2961CB07F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A41257-2ADE-41CE-9D6A-212D3EAF0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B271EC-8C48-4AE6-BD71-6FD59F665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E97830-9E88-4D9E-8BE6-3F7E1CD35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CFD953-C39D-48E4-BA4B-34FD9B334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A7459D-3348-4FBE-9FDD-B0A1F5D6F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118588-1431-419B-B692-0917947A7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3C2434-3EAB-400F-B0DA-79C36A43D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13D31-3B58-403C-9421-B25387C78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6B526E-DDA2-43EB-AC1F-61FACEE0E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3E5C7D-6B9F-46C3-BEDF-70A880ADE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51546B-5EE1-433C-95BA-681AAD89C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1070B9-F380-4493-9EBA-90E896FBF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BC3496-480C-44D5-8185-9123AE739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E33D6E-FC02-4442-B75A-CD81DB173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9AAFEF-BF98-452A-BD75-345B53DFA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07B7F1-5EC1-48AA-A66A-A08213A8F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BC1E74-8B8F-4723-8322-53929BD0A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851E15-ED0E-49C0-9EBF-940CE156A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E93B8-73EC-435B-8D2E-2313090C0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018A75-42E7-432C-BF12-791783BFC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35CC2B-CB7E-47AC-A27D-6E82D930B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69FCD1-FCCA-4CD8-B47E-8425692DA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F348F9-57B2-4015-ABC9-259DAE7ED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7E41E2-B06C-4938-A064-3EA292A48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762C9B-EB39-4DD3-92FF-C0EA02641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47DDEE-6F59-49E2-85EE-2BBEA03CE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4FEC0D-6530-4549-B661-8319A9199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7897E0-37AD-4445-B7C0-D428CFAA0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5C6943-81A4-43A5-A03A-2109BCC06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C4649-75E5-43F2-86B0-6668012B1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D72400-9D2A-4E9C-951A-BBC68549C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B10E2B-1137-4D5D-9F61-0E7FBDED2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2AEFFC-F694-427A-8E55-1D13E9A05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CCB448-A576-4698-AFDE-3194AACC5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90B73C-422D-4235-BEE1-F5D4EE9B0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A4324A-65FB-4BF2-A7C3-0C49E1540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C17CDB-C01C-422D-B5F9-9F6574C14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D27432-E9D3-4271-BE19-DF4C92239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D942A6-25C7-48C3-8640-79C40DC58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31F8BA-A01D-4731-8583-92A013E0D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BAFED-B2A8-48AE-8FFD-23CE76FCF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27457A-CFDB-4102-878D-31FCD1E87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8C73DE-9579-42BF-9794-BF2A81AE6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9912A2-B939-4521-A9FA-2FE9F8529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E92157-51E6-47DF-8A64-EE4B96BB0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F5E1B8-5CC8-431E-A773-32000E6F3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210150-A548-424E-BDA4-079314AB5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0610F7-F1D6-403B-B24C-4A4732E6C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079DC3-77D9-43E3-9551-BAE1635CE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087240-B28A-423D-B40C-F10E14D1B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CCDDEE-DE34-442D-86CF-39604B4BC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0D132-FB5A-4195-B74E-7753A39E9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A9830D-0A6A-41C8-B1A7-AB4499454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6B418C-B490-4536-B286-8C83F36D3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AAF6C3-925B-4DA4-A08C-59897891F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C823F0-C8E5-4EA3-A46D-0D31DE4A0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80ABB7-97AD-408F-8C49-78A7AC23E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1B8596-91A1-4A27-A949-67F384D4B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B77399-AF55-4044-B091-9DA67E85C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7B5914-237D-47CC-9916-C10B57ABB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C562D2-5D90-4880-B3E6-AB4D5E606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4E6024-66DA-4C70-BEFA-0E7E0C78B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7961F-7843-4057-8832-9989EF4A5DA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88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F97C0-4D89-4E04-96D5-6BD57C69166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36E93-671A-4FDC-8F4B-CCF5609D525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432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FD6CE-EC70-4E97-8541-B7006973180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D81B3-CB9B-4A09-9087-ACE7FE274F9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81343-EBA4-4790-87E7-48832119034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E7FEE-E685-45C4-95B7-0786A1EA386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7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18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607A3-5745-4839-B3C9-71A204A4DE9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F60A3-4E48-44E7-B141-BC4947CD338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6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1AB93-FE76-4069-B1E1-7EACA9C7FCF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30398-A6B5-4360-91BC-3441B2D7414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5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06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B37A4-3EFA-4CC0-9BC5-4D1BF6FC64E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C99F1-EDF8-4326-B44E-741ED004881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9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650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5EF37-F66D-4F1F-B10E-5173DEAC524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B1E1A-0A8F-4DA1-B42E-E624954EA31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3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94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4D50D-189C-4855-BF3C-F77A33F9BF5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20966-A2F9-4516-A24A-3CC9DC26B10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8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3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B5C12-4BFC-4CA1-B753-85DE5E9046A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C5D7F-4B5A-4C3B-978A-1C65BD897A2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3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628AE-10A5-4DF2-8001-DBAC086A846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CD207-E17B-422C-8230-36AF149E071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67430-3ECC-4C13-ABC5-A00A12D5E928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7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28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15B35-2130-4A8D-8C7D-0591836F2F8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E5C47-346F-4C92-8582-796C33AC558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2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73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6D0F8-37D0-41A6-BEEE-EB8F3C23FCB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82B1D-ACDD-4331-BF9A-584E256E05C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918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E46CB-AEAE-415B-96E3-9A083B15DD8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0A62F-6680-4922-B908-85374B03967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2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963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 type="dt" idx="6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B54A7-874C-4CF4-B5AE-93D403A2B4C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PlaceHolder 4"/>
          <p:cNvSpPr>
            <a:spLocks noGrp="1"/>
          </p:cNvSpPr>
          <p:nvPr>
            <p:ph type="ftr" idx="6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5"/>
          <p:cNvSpPr>
            <a:spLocks noGrp="1"/>
          </p:cNvSpPr>
          <p:nvPr>
            <p:ph type="sldNum" idx="6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A208F-6CB5-47EC-8B33-5BF16EDFD73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E3549-A70C-4F59-9231-1054715ADE9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19750-8779-4B19-A27A-FF4555128AC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DE498-2CEA-4324-8BB0-50697555BE1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68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F5936-E2E9-4DF7-8BA8-6C08027A4E71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212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304F5-5FDC-4694-A6AB-18034238F97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8268D-3E0F-475D-82D0-D811359C780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56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BE514-BB97-466A-8E9B-BD58DC8FC03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2C752-8A2B-49CA-8FD6-EA6A6C851C8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300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90AE3-798A-4A52-AFDA-8910C7C188F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1B826-ACD6-45BE-9841-C5C4DEF5950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AC4FD-A452-4C81-B6E3-2FA9B03DA63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6BC96-A80C-4FB7-87C2-D02807C08E7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5" name="图片 1" descr=""/>
          <p:cNvPicPr/>
          <p:nvPr/>
        </p:nvPicPr>
        <p:blipFill>
          <a:blip r:embed="rId1"/>
          <a:stretch/>
        </p:blipFill>
        <p:spPr>
          <a:xfrm>
            <a:off x="1509840" y="2695680"/>
            <a:ext cx="6124320" cy="146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6" name="图片 1" descr=""/>
          <p:cNvPicPr/>
          <p:nvPr/>
        </p:nvPicPr>
        <p:blipFill>
          <a:blip r:embed="rId1"/>
          <a:stretch/>
        </p:blipFill>
        <p:spPr>
          <a:xfrm>
            <a:off x="71280" y="885960"/>
            <a:ext cx="9001440" cy="5086080"/>
          </a:xfrm>
          <a:prstGeom prst="rect">
            <a:avLst/>
          </a:prstGeom>
          <a:ln w="0">
            <a:noFill/>
          </a:ln>
        </p:spPr>
      </p:pic>
      <p:pic>
        <p:nvPicPr>
          <p:cNvPr id="1007" name="Picture 1" descr=""/>
          <p:cNvPicPr/>
          <p:nvPr/>
        </p:nvPicPr>
        <p:blipFill>
          <a:blip r:embed="rId2"/>
          <a:stretch/>
        </p:blipFill>
        <p:spPr>
          <a:xfrm>
            <a:off x="1763640" y="2997360"/>
            <a:ext cx="358920" cy="318960"/>
          </a:xfrm>
          <a:prstGeom prst="rect">
            <a:avLst/>
          </a:prstGeom>
          <a:ln w="0">
            <a:noFill/>
          </a:ln>
        </p:spPr>
      </p:pic>
      <p:pic>
        <p:nvPicPr>
          <p:cNvPr id="1008" name="Picture 1" descr=""/>
          <p:cNvPicPr/>
          <p:nvPr/>
        </p:nvPicPr>
        <p:blipFill>
          <a:blip r:embed="rId3"/>
          <a:stretch/>
        </p:blipFill>
        <p:spPr>
          <a:xfrm>
            <a:off x="3780000" y="2997360"/>
            <a:ext cx="358560" cy="318960"/>
          </a:xfrm>
          <a:prstGeom prst="rect">
            <a:avLst/>
          </a:prstGeom>
          <a:ln w="0">
            <a:noFill/>
          </a:ln>
        </p:spPr>
      </p:pic>
      <p:pic>
        <p:nvPicPr>
          <p:cNvPr id="1009" name="Picture 1" descr=""/>
          <p:cNvPicPr/>
          <p:nvPr/>
        </p:nvPicPr>
        <p:blipFill>
          <a:blip r:embed="rId4"/>
          <a:stretch/>
        </p:blipFill>
        <p:spPr>
          <a:xfrm>
            <a:off x="3132000" y="3429000"/>
            <a:ext cx="358920" cy="318960"/>
          </a:xfrm>
          <a:prstGeom prst="rect">
            <a:avLst/>
          </a:prstGeom>
          <a:ln w="0">
            <a:noFill/>
          </a:ln>
        </p:spPr>
      </p:pic>
      <p:pic>
        <p:nvPicPr>
          <p:cNvPr id="1010" name="Picture 1" descr=""/>
          <p:cNvPicPr/>
          <p:nvPr/>
        </p:nvPicPr>
        <p:blipFill>
          <a:blip r:embed="rId5"/>
          <a:stretch/>
        </p:blipFill>
        <p:spPr>
          <a:xfrm>
            <a:off x="6804000" y="3429000"/>
            <a:ext cx="358920" cy="318960"/>
          </a:xfrm>
          <a:prstGeom prst="rect">
            <a:avLst/>
          </a:prstGeom>
          <a:ln w="0">
            <a:noFill/>
          </a:ln>
        </p:spPr>
      </p:pic>
      <p:pic>
        <p:nvPicPr>
          <p:cNvPr id="1011" name="Picture 1" descr=""/>
          <p:cNvPicPr/>
          <p:nvPr/>
        </p:nvPicPr>
        <p:blipFill>
          <a:blip r:embed="rId6"/>
          <a:stretch/>
        </p:blipFill>
        <p:spPr>
          <a:xfrm>
            <a:off x="7020000" y="3933720"/>
            <a:ext cx="358560" cy="319320"/>
          </a:xfrm>
          <a:prstGeom prst="rect">
            <a:avLst/>
          </a:prstGeom>
          <a:ln w="0">
            <a:noFill/>
          </a:ln>
        </p:spPr>
      </p:pic>
      <p:pic>
        <p:nvPicPr>
          <p:cNvPr id="1012" name="Picture 1" descr=""/>
          <p:cNvPicPr/>
          <p:nvPr/>
        </p:nvPicPr>
        <p:blipFill>
          <a:blip r:embed="rId7"/>
          <a:stretch/>
        </p:blipFill>
        <p:spPr>
          <a:xfrm>
            <a:off x="3059280" y="5587920"/>
            <a:ext cx="358560" cy="319320"/>
          </a:xfrm>
          <a:prstGeom prst="rect">
            <a:avLst/>
          </a:prstGeom>
          <a:ln w="0">
            <a:noFill/>
          </a:ln>
        </p:spPr>
      </p:pic>
      <p:pic>
        <p:nvPicPr>
          <p:cNvPr id="1013" name="Picture 1" descr=""/>
          <p:cNvPicPr/>
          <p:nvPr/>
        </p:nvPicPr>
        <p:blipFill>
          <a:blip r:embed="rId8"/>
          <a:stretch/>
        </p:blipFill>
        <p:spPr>
          <a:xfrm>
            <a:off x="6012000" y="5589720"/>
            <a:ext cx="358560" cy="3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0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10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5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500"/>
                                        <p:tgtEl>
                                          <p:spTgt spid="10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4" name="图片 1" descr=""/>
          <p:cNvPicPr/>
          <p:nvPr/>
        </p:nvPicPr>
        <p:blipFill>
          <a:blip r:embed="rId1"/>
          <a:stretch/>
        </p:blipFill>
        <p:spPr>
          <a:xfrm>
            <a:off x="81000" y="2676600"/>
            <a:ext cx="8982000" cy="1504800"/>
          </a:xfrm>
          <a:prstGeom prst="rect">
            <a:avLst/>
          </a:prstGeom>
          <a:ln w="0">
            <a:noFill/>
          </a:ln>
        </p:spPr>
      </p:pic>
      <p:pic>
        <p:nvPicPr>
          <p:cNvPr id="1015" name="Picture 1" descr=""/>
          <p:cNvPicPr/>
          <p:nvPr/>
        </p:nvPicPr>
        <p:blipFill>
          <a:blip r:embed="rId2"/>
          <a:stretch/>
        </p:blipFill>
        <p:spPr>
          <a:xfrm>
            <a:off x="396720" y="1484280"/>
            <a:ext cx="358920" cy="318960"/>
          </a:xfrm>
          <a:prstGeom prst="rect">
            <a:avLst/>
          </a:prstGeom>
          <a:ln w="0">
            <a:noFill/>
          </a:ln>
        </p:spPr>
      </p:pic>
      <p:pic>
        <p:nvPicPr>
          <p:cNvPr id="1016" name="Picture 1" descr=""/>
          <p:cNvPicPr/>
          <p:nvPr/>
        </p:nvPicPr>
        <p:blipFill>
          <a:blip r:embed="rId3"/>
          <a:stretch/>
        </p:blipFill>
        <p:spPr>
          <a:xfrm>
            <a:off x="6300720" y="3040200"/>
            <a:ext cx="358920" cy="318960"/>
          </a:xfrm>
          <a:prstGeom prst="rect">
            <a:avLst/>
          </a:prstGeom>
          <a:ln w="0">
            <a:noFill/>
          </a:ln>
        </p:spPr>
      </p:pic>
      <p:pic>
        <p:nvPicPr>
          <p:cNvPr id="1017" name="Picture 1" descr=""/>
          <p:cNvPicPr/>
          <p:nvPr/>
        </p:nvPicPr>
        <p:blipFill>
          <a:blip r:embed="rId4"/>
          <a:stretch/>
        </p:blipFill>
        <p:spPr>
          <a:xfrm>
            <a:off x="6068880" y="3298680"/>
            <a:ext cx="358920" cy="319320"/>
          </a:xfrm>
          <a:prstGeom prst="rect">
            <a:avLst/>
          </a:prstGeom>
          <a:ln w="0">
            <a:noFill/>
          </a:ln>
        </p:spPr>
      </p:pic>
      <p:pic>
        <p:nvPicPr>
          <p:cNvPr id="1018" name="Picture 1" descr=""/>
          <p:cNvPicPr/>
          <p:nvPr/>
        </p:nvPicPr>
        <p:blipFill>
          <a:blip r:embed="rId5"/>
          <a:stretch/>
        </p:blipFill>
        <p:spPr>
          <a:xfrm>
            <a:off x="1763640" y="3789360"/>
            <a:ext cx="4392720" cy="36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500"/>
                                        <p:tgtEl>
                                          <p:spTgt spid="10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5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5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8" dur="500"/>
                                        <p:tgtEl>
                                          <p:spTgt spid="10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9" name="图片 1" descr=""/>
          <p:cNvPicPr/>
          <p:nvPr/>
        </p:nvPicPr>
        <p:blipFill>
          <a:blip r:embed="rId1"/>
          <a:stretch/>
        </p:blipFill>
        <p:spPr>
          <a:xfrm>
            <a:off x="200160" y="1262160"/>
            <a:ext cx="8743680" cy="4333680"/>
          </a:xfrm>
          <a:prstGeom prst="rect">
            <a:avLst/>
          </a:prstGeom>
          <a:ln w="0">
            <a:noFill/>
          </a:ln>
        </p:spPr>
      </p:pic>
      <p:pic>
        <p:nvPicPr>
          <p:cNvPr id="1020" name="Picture 1" descr=""/>
          <p:cNvPicPr/>
          <p:nvPr/>
        </p:nvPicPr>
        <p:blipFill>
          <a:blip r:embed="rId2"/>
          <a:stretch/>
        </p:blipFill>
        <p:spPr>
          <a:xfrm>
            <a:off x="3708360" y="1281240"/>
            <a:ext cx="358920" cy="318960"/>
          </a:xfrm>
          <a:prstGeom prst="rect">
            <a:avLst/>
          </a:prstGeom>
          <a:ln w="0">
            <a:noFill/>
          </a:ln>
        </p:spPr>
      </p:pic>
      <p:pic>
        <p:nvPicPr>
          <p:cNvPr id="1021" name="Picture 1" descr=""/>
          <p:cNvPicPr/>
          <p:nvPr/>
        </p:nvPicPr>
        <p:blipFill>
          <a:blip r:embed="rId3"/>
          <a:stretch/>
        </p:blipFill>
        <p:spPr>
          <a:xfrm>
            <a:off x="3203640" y="3716280"/>
            <a:ext cx="358560" cy="31932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1" descr=""/>
          <p:cNvPicPr/>
          <p:nvPr/>
        </p:nvPicPr>
        <p:blipFill>
          <a:blip r:embed="rId4"/>
          <a:stretch/>
        </p:blipFill>
        <p:spPr>
          <a:xfrm>
            <a:off x="3348000" y="5157720"/>
            <a:ext cx="358920" cy="319320"/>
          </a:xfrm>
          <a:prstGeom prst="rect">
            <a:avLst/>
          </a:prstGeom>
          <a:ln w="0">
            <a:noFill/>
          </a:ln>
        </p:spPr>
      </p:pic>
      <p:pic>
        <p:nvPicPr>
          <p:cNvPr id="1023" name="Picture 1" descr=""/>
          <p:cNvPicPr/>
          <p:nvPr/>
        </p:nvPicPr>
        <p:blipFill>
          <a:blip r:embed="rId5"/>
          <a:stretch/>
        </p:blipFill>
        <p:spPr>
          <a:xfrm>
            <a:off x="8244000" y="2205000"/>
            <a:ext cx="358560" cy="318960"/>
          </a:xfrm>
          <a:prstGeom prst="rect">
            <a:avLst/>
          </a:prstGeom>
          <a:ln w="0">
            <a:noFill/>
          </a:ln>
        </p:spPr>
      </p:pic>
      <p:pic>
        <p:nvPicPr>
          <p:cNvPr id="1024" name="Picture 1" descr=""/>
          <p:cNvPicPr/>
          <p:nvPr/>
        </p:nvPicPr>
        <p:blipFill>
          <a:blip r:embed="rId6"/>
          <a:stretch/>
        </p:blipFill>
        <p:spPr>
          <a:xfrm>
            <a:off x="8244000" y="2637000"/>
            <a:ext cx="358560" cy="318960"/>
          </a:xfrm>
          <a:prstGeom prst="rect">
            <a:avLst/>
          </a:prstGeom>
          <a:ln w="0">
            <a:noFill/>
          </a:ln>
        </p:spPr>
      </p:pic>
      <p:pic>
        <p:nvPicPr>
          <p:cNvPr id="1025" name="Picture 1" descr=""/>
          <p:cNvPicPr/>
          <p:nvPr/>
        </p:nvPicPr>
        <p:blipFill>
          <a:blip r:embed="rId7"/>
          <a:stretch/>
        </p:blipFill>
        <p:spPr>
          <a:xfrm>
            <a:off x="8317080" y="2997360"/>
            <a:ext cx="358560" cy="318960"/>
          </a:xfrm>
          <a:prstGeom prst="rect">
            <a:avLst/>
          </a:prstGeom>
          <a:ln w="0">
            <a:noFill/>
          </a:ln>
        </p:spPr>
      </p:pic>
      <p:pic>
        <p:nvPicPr>
          <p:cNvPr id="1026" name="Picture 1" descr=""/>
          <p:cNvPicPr/>
          <p:nvPr/>
        </p:nvPicPr>
        <p:blipFill>
          <a:blip r:embed="rId8"/>
          <a:stretch/>
        </p:blipFill>
        <p:spPr>
          <a:xfrm>
            <a:off x="8244000" y="3371760"/>
            <a:ext cx="358560" cy="319320"/>
          </a:xfrm>
          <a:prstGeom prst="rect">
            <a:avLst/>
          </a:prstGeom>
          <a:ln w="0">
            <a:noFill/>
          </a:ln>
        </p:spPr>
      </p:pic>
      <p:pic>
        <p:nvPicPr>
          <p:cNvPr id="1027" name="Picture 1" descr=""/>
          <p:cNvPicPr/>
          <p:nvPr/>
        </p:nvPicPr>
        <p:blipFill>
          <a:blip r:embed="rId9"/>
          <a:stretch/>
        </p:blipFill>
        <p:spPr>
          <a:xfrm>
            <a:off x="8244000" y="3716280"/>
            <a:ext cx="358560" cy="319320"/>
          </a:xfrm>
          <a:prstGeom prst="rect">
            <a:avLst/>
          </a:prstGeom>
          <a:ln w="0">
            <a:noFill/>
          </a:ln>
        </p:spPr>
      </p:pic>
      <p:pic>
        <p:nvPicPr>
          <p:cNvPr id="1028" name="Picture 1" descr=""/>
          <p:cNvPicPr/>
          <p:nvPr/>
        </p:nvPicPr>
        <p:blipFill>
          <a:blip r:embed="rId10"/>
          <a:stretch/>
        </p:blipFill>
        <p:spPr>
          <a:xfrm>
            <a:off x="8244000" y="4149720"/>
            <a:ext cx="358560" cy="31896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1" descr=""/>
          <p:cNvPicPr/>
          <p:nvPr/>
        </p:nvPicPr>
        <p:blipFill>
          <a:blip r:embed="rId11"/>
          <a:stretch/>
        </p:blipFill>
        <p:spPr>
          <a:xfrm>
            <a:off x="8317080" y="4508640"/>
            <a:ext cx="358560" cy="31896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1" descr=""/>
          <p:cNvPicPr/>
          <p:nvPr/>
        </p:nvPicPr>
        <p:blipFill>
          <a:blip r:embed="rId12"/>
          <a:stretch/>
        </p:blipFill>
        <p:spPr>
          <a:xfrm>
            <a:off x="8244000" y="4941720"/>
            <a:ext cx="358560" cy="3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5" dur="500"/>
                                        <p:tgtEl>
                                          <p:spTgt spid="10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0" dur="5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5" dur="500"/>
                                        <p:tgtEl>
                                          <p:spTgt spid="10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0" dur="500"/>
                                        <p:tgtEl>
                                          <p:spTgt spid="10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5" dur="5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0" dur="5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5" dur="5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0" dur="5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5" dur="5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0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5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19T10:08:40Z</dcterms:modified>
  <cp:revision>2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